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BDA-AEC4-4B10-8BF8-78FC45DC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CD6-C6E9-44B0-ACA4-11BBA923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4FEE9-4C62-4A06-A623-1A3A5391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F34BD-85EE-493D-BDA9-5EC52679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C4F73-3A62-477B-A782-A7050D45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C036C-0DDA-474F-8D74-EFB70A1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99783-F2FC-4EC5-80B9-DFE6C0CD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734C3-04BF-4096-9023-0C6BF62B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5E3F9-7853-4921-ABED-7A0255D2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C3BBD-78B4-45D4-9824-0DC8F66B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9E8A5-993F-4A27-A506-C87BC2F1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A5E5E-2CF1-4599-89A0-B43D1537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507-A317-4B7B-9CE8-0DD46D2F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794FB-8B28-4C7D-8C7C-3AD326A7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40A6F-F361-43C9-BA9B-22D62CA8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E5C88-45A1-491E-A54A-8F55C3CB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E24E3-24EF-475E-A720-53B77FA2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70FAF-AFF8-4423-8B80-16D744D0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E11E8-2F1A-4F09-9851-C92497A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FB520-D600-431F-B5B1-70D60975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A0B21-3871-4813-98C2-2C0A0373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2A09C-AAD8-48CA-B3D4-E3B9D3DB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18711-6665-46A2-8B72-41A5EB04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EEC-8A8B-42E8-AD5D-AA10AE62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9162B-756F-41E4-A4DC-922509EB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E2E49-B494-4684-9BE1-4847A004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36FB2-7EDA-4F59-832F-DEB1EA84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9B1BE-EC9C-4F7C-8204-A9E44ED9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6CB11-9EFA-4EF1-86B9-0EA30136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13A00-F889-4981-A162-5BAF276C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C8ED-F7B3-4FC4-A417-335B2076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AC9D1-5ECB-45AD-A036-CA77576A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22F13-915B-4EAA-AD53-1C921EA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D6F6A-C813-4D86-8740-06CF7BA8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2C6A-F91B-4A96-BD4A-113ACD19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1AEE6-C04F-4219-9E5F-5FBFA147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9BCA0-C368-4168-9028-A0ACDD19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90190-AFE0-4A20-B52D-C0543A2F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42C38-CF9E-49BF-8C5F-3FC6D021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0394C-B3B4-46A1-8E42-A096B85A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91635-FFF0-4651-9334-76D10154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BCC37-5826-4966-9996-A1A77BE5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70592-809A-42AD-B8B2-BD6E6CEF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CAD23-19B4-4727-8EAF-72B7DF4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1EC4D-1EB1-4078-9A7D-81EA2854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A932-9D3F-4AD7-A007-37EFFDC0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B9172-70D9-4132-80B7-DA67FF54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F5DB4-F9D4-45E7-8C65-48B0F8F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D080B-CA77-4C0E-9B57-339475B4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9EDF3-90D0-4CE8-9F27-69776CCC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891A2-0CD9-4A07-8E11-7E869C6A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9CE90-526F-414D-91C3-61481FAD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ABDA4-A181-4115-8F2B-24D8F74A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30F88-9B2B-4C28-AC87-21F0C1B7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7FD9B-FC14-45E3-871D-DC871CD0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8B1B7-9AF9-4171-A907-47A8187D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7E3C-1AD4-4810-90B0-FA337013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9E5A6-AB2E-4204-9217-0BCEB447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D380F-1A6B-44AA-9D51-D39A4349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7521B-3507-4BD1-8B1D-8C8E9763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42C21-2064-4F58-8D33-EC129D6A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5468A-4659-4760-B0F1-DED8FF7C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CCDC3-53CC-4FAF-8239-5BA86CAB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22FAD-B4B6-4E36-A477-360F2D4C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DD566-2F19-4B91-8B69-918430B3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09690-A4D7-45EF-8F1D-43842768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F316A-BB31-40DF-B15D-DD469025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978F-2000-40D8-A050-1D8C0DFD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FA0B6-B1F6-4EE8-BBD7-AF65D4B4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D32A5-FAB6-4FFF-BA32-C84F0F6F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20E87-2FF3-49C9-BA88-B0C94492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106E3-51BF-4A59-91BC-2C25D8C6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8533D-06A9-492E-BD32-0CD799FC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8F71C-3E26-478F-AD50-99CA2FC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85B6D-B974-4D5F-A923-012B613B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71F89-E4F4-4909-9D1D-B0865339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CF2E5-0759-4A7F-ABE3-00C8589F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E6B31-9B91-4639-A0A5-72DB9C4A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C615-A3C4-4270-BFFB-974E4E5A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ABCE5-464E-46CA-A7BC-238E869F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1A556-8EA7-4C61-B816-56A9BC39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187AF6-2322-4714-952C-C3BB1847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97E8F-B172-4B72-84EB-281179AD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A031C-8174-488C-AEB1-80FA7BEB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4294A-8F1F-4DA3-B20D-08A68AF9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1A6993-133F-4FE8-9A13-7BD7DC85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50DCF-999C-4414-9DFF-C3D9F01A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6413A-313F-48BA-A87C-765C6CBD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AD126-8F2C-4115-93F2-05C2624F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3C54-E4E0-43F9-B28F-9F43B588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26A86-B11D-4750-AC64-5344524A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076F9-DB9A-4318-A9A6-EB6E81F8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AAD2A-A330-443C-81DF-5E9F96DF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80F395-6C2D-4616-8DD1-92490EDE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B0383-C201-4B4B-AA5F-DD81CFFE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63C785-5858-4168-B152-0CC1951F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6F88AE-9081-40AB-9346-AECB4770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13670-F1D0-46E2-8700-B1F38696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BC1A7-6471-4B5C-B331-36DBEE86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9F4B0-E881-4FCE-8F38-C98DCC59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6288-9C76-4D77-AFA4-7063F0D9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AE37F-554F-426A-9AD9-437D4D2C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2AFAD-FBBD-4710-94BA-740C2459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170F3-B6D4-4C73-95A3-DF133A32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5471F-BB2A-4A66-9CFE-552ECA9B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435E1-F0ED-45F0-A84D-3945FD2C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80C316-E938-4E07-88BA-1FB5EEE7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80EA6-9351-4167-BE80-EC425C2F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5F35A-3F05-430A-AD6E-B0794DD4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6D98BC-8FA8-43A3-8880-FABAA0A9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4EEDF9-72AE-49A7-A59D-1ADCBAEA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DDE-2448-4897-A0C1-BAA329AD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F85C-B172-4053-B71B-7938210E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5A631-51D6-4F95-96FB-E275BF32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30890-AD2D-4CC1-9C52-2385EB7E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5C3085-BE4E-46B5-BD3A-CFB66BCE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B34B8-626B-49D5-BB0D-A6BCB631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E26DA-6A9D-438D-8F31-2F44E08A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7C14E-6246-4E66-AD35-B7C09064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C03DF-5395-48FF-BB68-CB09DA61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37AF8-C786-44A3-AE46-A7A1F7D0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58E7FE-6E05-4BE4-8DC8-4A9682D5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733AE-8FDC-4221-AD36-DD8E2A1A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8CD4-100D-4D27-85DA-C1A36318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03666-60C1-4C89-8F36-21317F27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92681-D15A-421A-AE75-CA4BBD51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A31C8-79FF-41AA-8433-4ED1D6F6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4EE8A-532D-4CD0-9565-360F4CE1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4538D-7983-4D5D-AB31-DEF07C3D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73142-34F4-4CAA-858B-E36EF28C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B7B256-C6A6-443C-A8A8-DF89A133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136A12-0258-4B18-8932-1F442610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049194-7BB2-4D88-803E-A9E85249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684B5E-7D04-4256-903E-F89431F5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C33C-0EFF-4EE1-9D72-AFF39293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47E72-CEDF-4995-A84C-FB99BDD2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ED90AA-8E87-42B2-8383-183F081D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461BD0-B637-4C24-8639-6A8B5546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60541C-9F88-4006-B4B0-C789E7FA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8746F-7DAF-4876-9C49-6EC60214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8AFE3-47C2-4467-A437-439AB98D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CF644-DB88-4DD8-A6CF-FF126D09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9948A-42A6-4DC0-B31C-EEE9ED5E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411485-0E08-42B0-8FE0-FDEFBCC8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04D38B-ED6A-4AB6-9F24-5084FC03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D6E5-FE77-4D7F-8AF2-68672F3C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B148C-A0BE-410F-94D3-D54B3663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A8510-319B-42A8-81E7-4FA5DBF1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AD0C1F-E76D-4D5A-8DF1-C778E68E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756B07-287F-4583-8B19-26D3D9AE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20E5B-5D69-4263-A40F-38664380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05580-0CDF-4FFB-9020-75FBDD42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4010F1-C2A1-4FAD-97FD-04412E88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EFB7B0-0419-4AD7-BF7F-DB68A862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BA360A-AD96-4F36-B4FB-4CD2B7CB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EFABE-AF0D-4B9F-83DB-2A622293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CBAE-4CD5-4EFA-9554-ECA33C42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435E2A-E162-4761-AECA-F5157BDB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7F5507-8581-44F8-8B6E-7EA61F0C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F95660-9A28-4D03-86CB-8469A512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F6F4B7-5BE6-4A78-B9DA-0C863DB6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164EA-A05E-42BB-B5E3-0DF29511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8A0A05-93FC-4998-9B2D-7415111F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F22D44-745B-47DB-80AB-000B6E4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70DAC5-4B6E-4D85-9BD4-92E4255F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F30C69-864D-492F-BA28-F891CA05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AC40DE-2B20-416D-B70C-90539BEB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ED5E-99E1-4118-95C8-B194A0A6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B09D0-6364-4B85-846B-71A7FFBE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C2C33-767F-40C9-B706-AFAB5479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34BC4F-366C-4EEA-A069-BA4C01F9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1EBC-72C5-47B8-9727-6038AC72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4403-7918-450C-BC6E-0895D6B4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8702C-37B3-47D0-B9A6-B517D2F6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12AC-009B-432D-8296-7F8B25EE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AF4-DB7A-4B6A-9E70-EFBB0823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B6CA-76E9-476B-A01B-939A86CE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C208-5997-4262-9064-3B10C1AA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1721-6199-4505-AEF6-A6319ED8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3FB8-0B49-437C-BEDF-C84163E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32B3-F110-46AF-8643-652A1731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2C8F-2DB8-42F9-B85F-0D63AF03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2126-FD2A-461A-BE59-EDE18176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AAF1-3749-4F5D-88A3-29E7264B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E3F7-A50E-401B-A375-E91E4121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7F3F-DCF7-44F7-83A3-C496F48B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CE1-E39D-4E74-AEDD-5CFB04C1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DA2A-9906-4452-AF51-CBA14CFC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D7C61-2BAA-465E-BD19-7FE15FEC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9ED0-69CC-4DAD-B88B-BB0CB6C3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0B7B-9527-4E71-AE5F-81B59891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ACE4-A6B5-4669-A59E-C63EFD0D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0003-C639-405B-8AC6-52C6D594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A4CB5-8B4C-4C0F-97E1-5D56449A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6626F-09C1-403B-ABD9-D32EBA84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BBE85-FEA0-4F93-884C-8BB5267C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049A3-0226-4994-A1CC-990CF7FB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962-82D7-4B89-BECD-D128EB44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69839-F18D-4361-ACF9-009F3A13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79E5-31FB-4F6A-801D-A0E33F91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52891-FB8C-4C20-89EF-B176F213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D74D3-987E-4379-904F-17866E4B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9184F-6A4F-4424-BB49-DC740FEF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4682-5C06-466D-8F0B-6D3C6376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581A-0980-4B4B-96B0-81D48130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7D0F2-7D66-406D-8F14-EE4D2391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4302E-EF7B-40DC-8B8F-E06E5124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2AF32-A26E-410B-924A-E43A54A0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023-EEC5-4572-8066-AB242BA0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DC7FD-43E4-43AD-8F8E-1B289886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B7507-CF60-46F7-B035-F14D249B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DC674-A691-4FBE-A4F0-F2BFA075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987D7-37EC-47AF-A6C7-53BB623A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C6D31-C32D-4297-A0E4-D9093A0E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CB39E-0BD0-46C0-BB1C-9A7CB3FC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897EE-491A-4115-895A-701D20F6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F1B6A-1C20-40E2-BA52-38CDAAF2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64A9A-DC2E-4664-AB9C-BC84BAF3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E433B-94CC-4F71-9287-83F329D5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72A-FBA5-4217-AC0C-047FE57B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E8114-727F-4EEE-91AE-7C041376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1793E-7B2B-44B7-837C-7988568B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95B3D-0926-4AC9-9429-D7B0F615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44DEF-691A-4A8E-92F0-FAD3A3FF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A8ED5-D6DE-4F34-865E-6EA11A82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C993B-600D-4106-95AE-CC047F26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0F326-65F5-4EAF-9608-FAD05A0C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64555-F9B1-42FA-983C-5C88672A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1F5D8-C31A-46B6-889C-769805E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32A5A-FEFF-4F71-8FFB-BEDDB056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5AD-C5B1-4EDF-9B94-01588EFC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4228B-3FB1-4642-BD18-CB892F92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CA51E-CFF8-41C4-B7B4-2AA26F4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0B555-8032-40D8-840C-BB3A90B4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2A2CA-F9B7-46B2-B294-BC4700E6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6B8F4-B502-464C-85C9-B57A451E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76F73-E2C9-419C-84E2-DE4A9638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680A0-CFEB-4A5A-A32C-9AF63250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7F818-469F-4816-A0DF-1C0A6F84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0F2F4-A103-4CDD-9C55-C31C5234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FC25-85FF-45A6-8E91-DE2A6361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F66-FFE3-4BE5-9A07-9E573E72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04F6D-A98A-4037-9A9D-311EFE41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02B81-1E87-40F6-97CE-35D3C97C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F2A9C-6DDF-401E-A7E2-E8F224BB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DEB64-4375-4E1A-9595-0E77D081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06B95-C1D5-4924-875A-E9F2E50C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C97FA-47EC-45DF-B48E-08A5D4BC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67111-17F9-41D0-951D-CA8CE7DB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EC4F2-9A81-4D9A-B640-4B15E395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29FDF-1D3B-4A2B-A601-A0ED35F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0C955-CD5B-4550-8988-494189CE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6452-4BB9-406B-8F35-7DD910EAE1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0D51-0CA8-47C9-A099-79C620B596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1F74-D291-4125-9FFD-E7C4A3E7FF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40AD-10D5-45C0-AA22-153F451D0E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F51D-F9DB-4F3D-A3D5-D14BE1996C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80FF-2D78-4246-B9F5-797F121276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D672-8761-4A7C-B8DE-EEDCF65EB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20E-415F-4343-89E9-D55D1A918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75B4-2538-4A56-A1CC-051A67673A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79D4-5302-4DAD-A663-1A4B2FE44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BECA-6F50-4101-8AC5-B3DE5960A8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46FD-7CE7-4242-9C89-EF3B030679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C38F-738E-4E32-B227-DB98696816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0290-F390-4D89-A6FE-B77E060FE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FEBF-7D9B-4F2A-981F-5907160C5C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C3DE-12FD-4474-A855-9F221FE189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B490-B878-43E5-BA7F-09D7A2469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4827-D2C3-4A29-A213-C8E452DF6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1F4A-ED73-436B-B4A8-AB8F804951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ABA3-6F6F-4A4E-8627-9D06538D2C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083-603C-440E-9095-93F1345DFC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C9D2-25A2-49FC-A115-850493A7F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4334-9205-4F85-9E3F-C6484A7CBD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D47E-34FA-43B1-8D89-56BBA0DD7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D416-29F6-4C80-8F39-8553C26CD3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5935-1814-4857-8116-18EFCFE3FE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3C0-E9C2-4792-91B6-E457C91DC4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5505-443F-4FFC-A788-76A3203617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E13D-EBAD-4814-A4C5-9BE13EDEE2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0883-6496-4176-AAAE-398DC0048F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B84C-9A32-4A68-BAA9-F99FCCA9E1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7751-5FAC-48D5-A947-A7E46F797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5B7A-CF40-4C51-8C36-9D1BE769AC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7DEB-0ACB-47BF-AE42-862D4040E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0C01-D381-42A3-847A-4DBB0B7B35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9894-8305-495C-A62C-73F1226B9C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6A8A-973D-4883-ADAD-F992F0B30C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DF88-20C1-432D-8670-DDB0B6F658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8B4D-43EA-48CB-B6FA-D0A7FA0B21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33E-70DD-4151-805B-B6DA4A65E5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25680" y="1792440"/>
            <a:ext cx="5724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69633" descr=""/>
          <p:cNvPicPr/>
          <p:nvPr/>
        </p:nvPicPr>
        <p:blipFill>
          <a:blip r:embed="rId1"/>
          <a:stretch/>
        </p:blipFill>
        <p:spPr>
          <a:xfrm>
            <a:off x="700200" y="1690560"/>
            <a:ext cx="7743600" cy="34768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2050920" y="458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516720" y="45813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8609" descr=""/>
          <p:cNvPicPr/>
          <p:nvPr/>
        </p:nvPicPr>
        <p:blipFill>
          <a:blip r:embed="rId1"/>
          <a:stretch/>
        </p:blipFill>
        <p:spPr>
          <a:xfrm>
            <a:off x="252360" y="209520"/>
            <a:ext cx="8639280" cy="6438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60501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611280" y="4738680"/>
            <a:ext cx="604980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468360" y="5430960"/>
            <a:ext cx="6049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1317600"/>
            <a:ext cx="8610480" cy="549612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169920" y="122400"/>
            <a:ext cx="4114800" cy="12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425680" y="3990960"/>
            <a:ext cx="86508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441520" y="5502240"/>
            <a:ext cx="86508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948360" y="4379760"/>
            <a:ext cx="86544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948360" y="4911840"/>
            <a:ext cx="86544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77080" y="5834160"/>
            <a:ext cx="172728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020000" y="6321600"/>
            <a:ext cx="86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00120" y="1933560"/>
            <a:ext cx="7943760" cy="29908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7020000" y="3573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590400" y="1519200"/>
            <a:ext cx="7963200" cy="3819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3780000" y="3170160"/>
            <a:ext cx="122364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5148360" y="400536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1116000" y="479736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6588000" y="4767120"/>
            <a:ext cx="1224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318960" y="1095480"/>
            <a:ext cx="8506080" cy="466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284720" y="50990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895320" y="1952640"/>
            <a:ext cx="7353360" cy="29527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290520" y="758880"/>
            <a:ext cx="8562960" cy="58388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5301" descr=""/>
          <p:cNvPicPr/>
          <p:nvPr/>
        </p:nvPicPr>
        <p:blipFill>
          <a:blip r:embed="rId2"/>
          <a:stretch/>
        </p:blipFill>
        <p:spPr>
          <a:xfrm>
            <a:off x="838080" y="2195640"/>
            <a:ext cx="82393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4276" descr=""/>
          <p:cNvPicPr/>
          <p:nvPr/>
        </p:nvPicPr>
        <p:blipFill>
          <a:blip r:embed="rId1"/>
          <a:stretch/>
        </p:blipFill>
        <p:spPr>
          <a:xfrm>
            <a:off x="304920" y="1714680"/>
            <a:ext cx="8534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2231" descr=""/>
          <p:cNvPicPr/>
          <p:nvPr/>
        </p:nvPicPr>
        <p:blipFill>
          <a:blip r:embed="rId1"/>
          <a:stretch/>
        </p:blipFill>
        <p:spPr>
          <a:xfrm>
            <a:off x="695160" y="1714680"/>
            <a:ext cx="7753680" cy="34290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1979640" y="4653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372360" y="465300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4:5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